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0F8A-FAD4-447B-BAE7-FDA081340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ighlight appropriat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ive cues when need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ep 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or ey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ke something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vide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n interesting w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t headline on each visual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sent one idea on each visu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gin with a large first let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eck carefully for err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e the same transition through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e same animation through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’t bring animation across graph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ckground col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easy-to-read type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upper and lower c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oid use italics for emph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ave lots of white sp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ep it organiz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tch for bleed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me colors puls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nge font color to emphasiz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e contrasting col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role of five (or sev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1D9-D7B4-4D13-92C3-F8F7E5E6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B37-1110-4665-A8CD-FD8244D4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D1FF-D52A-4EBD-843E-9918FE1D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BE0-77B9-4141-85CD-0B894E65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5000-506C-4ADA-8EDB-BC569022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901D-AD10-44A1-88BB-C9A36E72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383C-BDD6-4786-B403-835E1AD0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5A9C-8644-4687-AFC8-9808FA83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1107-87F1-4451-9B2A-AD60A4AE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18DA-6835-4319-AEEE-29DC08CD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C610-74B5-475C-9459-8477C220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F25-6947-48D2-B65B-5E614CB0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D745-898A-4F19-BF34-7B23058D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FF21-3702-4248-9CFB-778216C5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5499-E927-4626-891C-F3109DBA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0216-B638-474F-BB14-5A7CB613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8CF1-A68F-49DE-8CC8-95CDF1B2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959-977D-472C-9C8C-7F9B6047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C5B-CF59-48EE-9D2A-71D48405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5386-6F3B-44F7-B57D-F93F0D53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4D9-EF29-4634-B9C4-CA93FA5E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703-04F9-48B2-A2BB-7CD840B6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306-36E1-4EA1-821F-B8C616D1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A956-9CDA-4443-BB75-7A54708A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C6EA-607F-42D6-BCA9-3A92358A15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AB9A-BCBE-44AA-BA20-2F30111790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R&amp;J%20jeopardy%20acts1&amp;2.ppt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eachertube.com/view_video.php?viewkey=3e2d61891b1e4051ef75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PowerPoint in the Classroom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-Servic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21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ther Uses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Review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ther Uses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0"/>
            <a:ext cx="8528040" cy="5564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4831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.S. serviceman Steve Rogers, left, from Oakland, Calif., chats with East German border guard Mike Staaps, right, who peers through a hole from the east side of the Berlin Wall in West Berlin, Germany, March 26, 1990. (AP Photo/Herbert Proepper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ggestions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hould I Use PowerPoi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When Should I Use PowerPoint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var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presentation as spe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in focusing on key a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Little Tips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K-I-S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ther Uses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urbulation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sessive act of opening and closing a refrigerator door in an attempt to catch it before the automatic light comes 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Flarpswitch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e light switch in every house with no function whatsoe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ther Uses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ign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am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13:47:13Z</dcterms:created>
  <dc:creator>Redbank Valley School Dist. </dc:creator>
  <dc:description/>
  <dc:language>en-US</dc:language>
  <cp:lastModifiedBy>klanders</cp:lastModifiedBy>
  <dcterms:modified xsi:type="dcterms:W3CDTF">2008-01-18T21:44:48Z</dcterms:modified>
  <cp:revision>39</cp:revision>
  <dc:subject/>
  <dc:title>Effective PowerPoint Presentations</dc:title>
</cp:coreProperties>
</file>